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9E4-A069-44B5-92FB-B140A5CB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B2D-9510-4019-9055-3795C964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840C-BA3B-48B0-AE33-24EE7C2F4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F79C-A4ED-4ED5-8A0D-DC5D72FE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76DB-F090-4A30-A698-E868848A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D5E0-B940-41DD-9FDE-0F6454829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0775-EF00-4B62-94BD-DF84E5D2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E0ED-0683-41EC-A1CF-3A07DB5B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9475-0416-455E-8C55-BFA0F5E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EF04-D1FB-4A21-8C90-0EA859CE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17C-55C1-4BF9-9177-88B70840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609-D4CD-494B-86B0-F87CB41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4F9B-1E93-4D48-A6BB-F96B63D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B920-1A59-4F6C-AAF6-AFD67EA0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C345-2F8A-470C-8AB6-65E4490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F09B-7281-4843-885F-9DF7152A4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07A3-FA80-4362-946A-D9BA35D3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62F-19AA-4714-9ED7-D6FB5442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BB87-17E6-4FA2-BE2D-4361FAB3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5B8-C5E0-4859-9C8D-328C816E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A50-D274-4B73-B83F-10FB8DED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A3D-E150-47DD-8640-7AD4DD0F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F4F-6185-4B1D-98D4-B99AB7F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9B29-44B1-4F5C-A458-F2EA6E0D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3279-ED6F-4DC9-AA04-904E41204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32AC-1455-410F-9D80-72B3A37A6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000000"/>
                </a:solidFill>
                <a:latin typeface="Arial"/>
              </a:rPr>
              <a:t>Present Tense Stem-Changing Verbs</a:t>
            </a:r>
            <a:endParaRPr b="0" lang="en-US" sz="5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3808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ge 10 – Lección Preliminar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EDIR (e &gt; i) – to ask for, to order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di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d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e &gt; i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v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p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í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í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gu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tir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85840" y="1371600"/>
            <a:ext cx="4956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erv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rep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laug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follow, contin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dr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REÍR (e &gt; i) – to laugh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ONREÍR (e &gt; i) – to smil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e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sonr</a:t>
            </a: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í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Remember that in Spanish there are three groups of stem-changing verb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The stem change occurs in all forms except the nosotros(as) and vosotros(as) form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e &gt; i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ERDER (e &gt; ie) – to lose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d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d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e &gt; ie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m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qu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ref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s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i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t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sp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i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nt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d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19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beg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wa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pref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think, pla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have f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wake 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e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l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l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beg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understan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o &gt; ue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ODER (o &gt; ue) – to be able to, can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d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od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erbs (o &gt; ue)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419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ar (u &gt; u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n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ntr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e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d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mi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dev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v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c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tar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m</a:t>
            </a:r>
            <a:r>
              <a:rPr b="1" lang="es-ES" sz="2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rz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19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pl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ount, tell a st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co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ind, me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me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f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slee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tu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return someth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go to b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 eat lun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Stem-Changing</a:t>
            </a:r>
            <a:r>
              <a:rPr b="0" lang="es-ES" sz="5400" spc="-1" strike="noStrike">
                <a:solidFill>
                  <a:srgbClr val="b7e7ff"/>
                </a:solidFill>
                <a:latin typeface="Arial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Let´s look at some verbs that have a stem change of </a:t>
            </a:r>
            <a:r>
              <a:rPr b="0" i="1" lang="es-ES" sz="3800" spc="-1" strike="noStrike">
                <a:solidFill>
                  <a:srgbClr val="ffffff"/>
                </a:solidFill>
                <a:latin typeface="Arial"/>
              </a:rPr>
              <a:t>e &gt; i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4419720"/>
            <a:ext cx="52578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20:02:47Z</dcterms:created>
  <dc:creator>Suzanne M. Shirley</dc:creator>
  <dc:description/>
  <dc:language>en-US</dc:language>
  <cp:lastModifiedBy>Local User</cp:lastModifiedBy>
  <dcterms:modified xsi:type="dcterms:W3CDTF">2009-08-17T20:34:29Z</dcterms:modified>
  <cp:revision>10</cp:revision>
  <dc:subject/>
  <dc:title>Presente de los Verbos con Cambios de Raíz</dc:title>
</cp:coreProperties>
</file>